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4BE-026D-4E61-8E9A-3AF1F73B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279-0CC4-4A51-BA52-D6382004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9F9-43AA-48E0-AB5F-21CD925B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73E-CC14-4BE4-8908-FBF9B9F1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E62-A137-41BA-AC0D-4A30C8B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1D1-81EA-47CD-B143-5211A70F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993-9CD3-4293-B704-31FBDE27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E08-0026-4906-85DD-FFAEF2C7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DFE-FA9B-4FCC-806C-C54A069A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093-1FC2-40AC-9379-0D9DE5D8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DE5-09B4-47A5-9FF9-0646C00A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C91-E79D-432F-886D-84A92F34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F6E9-F0A6-4CCC-B4FE-1F0E0FB3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A small sample of our class work 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supporting this project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Initial Garden Desig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purpose of Gard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sustainabil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Photos of the class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88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Bradley Hand ITC"/>
              </a:rPr>
              <a:t>Room 14’s Garden and Pizza Oven Project</a:t>
            </a:r>
            <a:br>
              <a:rPr sz="6000"/>
            </a:br>
            <a:r>
              <a:rPr b="1" lang="en-US" sz="4400" spc="-1" strike="noStrike">
                <a:solidFill>
                  <a:srgbClr val="33cc33"/>
                </a:solidFill>
                <a:latin typeface="Bradley Hand ITC"/>
              </a:rPr>
              <a:t>- Meadowbank School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585" t="0" r="6785" b="3334"/>
          <a:stretch/>
        </p:blipFill>
        <p:spPr>
          <a:xfrm>
            <a:off x="152280" y="152280"/>
            <a:ext cx="441972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3800" cy="65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856" t="0" r="6142" b="3531"/>
          <a:stretch/>
        </p:blipFill>
        <p:spPr>
          <a:xfrm>
            <a:off x="4519440" y="152280"/>
            <a:ext cx="4395960" cy="6553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7031" r="0" b="27350"/>
          <a:stretch/>
        </p:blipFill>
        <p:spPr>
          <a:xfrm>
            <a:off x="380880" y="3429000"/>
            <a:ext cx="3733920" cy="32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3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519" t="0" r="8308" b="3851"/>
          <a:stretch/>
        </p:blipFill>
        <p:spPr>
          <a:xfrm>
            <a:off x="152280" y="152280"/>
            <a:ext cx="4368960" cy="655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435" t="0" r="7022" b="3088"/>
          <a:stretch/>
        </p:blipFill>
        <p:spPr>
          <a:xfrm>
            <a:off x="4572000" y="152280"/>
            <a:ext cx="4403880" cy="655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267440" cy="320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4:45:16Z</dcterms:created>
  <dc:creator> </dc:creator>
  <dc:description/>
  <dc:language>en-US</dc:language>
  <cp:lastModifiedBy> </cp:lastModifiedBy>
  <dcterms:modified xsi:type="dcterms:W3CDTF">2009-04-30T05:05:56Z</dcterms:modified>
  <cp:revision>4</cp:revision>
  <dc:subject/>
  <dc:title>Slide 1</dc:title>
</cp:coreProperties>
</file>