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FA8-94D1-4417-9AE9-331455FA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BF6-75BD-4096-BCB7-46C289F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8A4-78BD-486E-B333-D2B14F7D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411-4CC6-46BC-858E-30CEBCE6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68A-44D2-4070-9FB8-8636A891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D3B-4285-4EB8-BE7C-CA56CF1D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CF4-FDB7-420C-9CB1-1765CD7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4B3-71E4-4F2C-9F9C-9CC35493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AF2-3BD0-41D7-B16D-D91CC2AD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ED5-86E5-40C2-86FC-87E47C7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539-0ADF-4899-835B-ED494150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DAE-A87C-430D-9100-A57F5151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526-1D14-4BFC-A372-A0315ACD6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A small sample of our class work 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Bradley Hand ITC"/>
              </a:rPr>
              <a:t>supporting this project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Initial Garden Desig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purpose of Gard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Q &amp; A’s about sustainabil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- Photos of the class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Bradley Hand ITC"/>
              </a:rPr>
              <a:t>Room 14’s Garden and Pizza Oven Project</a:t>
            </a:r>
            <a:br>
              <a:rPr sz="6000"/>
            </a:br>
            <a:r>
              <a:rPr b="1" lang="en-US" sz="4400" spc="-1" strike="noStrike">
                <a:solidFill>
                  <a:srgbClr val="33cc33"/>
                </a:solidFill>
                <a:latin typeface="Bradley Hand ITC"/>
              </a:rPr>
              <a:t>- Meadowbank School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585" t="0" r="6785" b="3334"/>
          <a:stretch/>
        </p:blipFill>
        <p:spPr>
          <a:xfrm>
            <a:off x="152280" y="152280"/>
            <a:ext cx="4419720" cy="662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3800" cy="655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856" t="0" r="6142" b="3531"/>
          <a:stretch/>
        </p:blipFill>
        <p:spPr>
          <a:xfrm>
            <a:off x="4519440" y="152280"/>
            <a:ext cx="4395960" cy="6553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7031" r="0" b="27350"/>
          <a:stretch/>
        </p:blipFill>
        <p:spPr>
          <a:xfrm>
            <a:off x="380880" y="3429000"/>
            <a:ext cx="3733920" cy="32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3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519" t="0" r="8308" b="3851"/>
          <a:stretch/>
        </p:blipFill>
        <p:spPr>
          <a:xfrm>
            <a:off x="152280" y="152280"/>
            <a:ext cx="436896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6062760"/>
            <a:ext cx="1371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8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435" t="0" r="7022" b="3088"/>
          <a:stretch/>
        </p:blipFill>
        <p:spPr>
          <a:xfrm>
            <a:off x="4572000" y="152280"/>
            <a:ext cx="4403880" cy="655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267440" cy="320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4:45:16Z</dcterms:created>
  <dc:creator> </dc:creator>
  <dc:description/>
  <dc:language>en-US</dc:language>
  <cp:lastModifiedBy> </cp:lastModifiedBy>
  <dcterms:modified xsi:type="dcterms:W3CDTF">2009-04-30T05:05:56Z</dcterms:modified>
  <cp:revision>4</cp:revision>
  <dc:subject/>
  <dc:title>Slide 1</dc:title>
</cp:coreProperties>
</file>