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9A5A-41C2-4A72-B9A7-D0B2B8741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4D6F-8748-423B-86FE-2CDEEB04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FE0B-2F14-44AF-91C9-62027C920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5A35-BF7E-49C2-8555-7413741F8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15D8-D7BB-46D4-BC10-4E8E0C59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8046-1AC0-4D94-A6A2-33C1AE8B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6BC0-377C-495D-B542-2ECC8AFC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D7F7-8E2D-4FF5-A4EC-3BAB068A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3440-ECEF-4A25-9198-EE4CE1ED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E19E-CB36-4B77-BF94-8751C19F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AC8E-0A6D-4A6F-BA1A-F212D097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7AEA-4BCA-4BBA-99AC-06C3E9D6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F7BB-1785-4CB7-B556-48FB7FBA8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14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Bradley Hand ITC"/>
              </a:rPr>
              <a:t>A small sample of our class work </a:t>
            </a:r>
            <a:br>
              <a:rPr sz="3600"/>
            </a:br>
            <a:r>
              <a:rPr b="1" lang="en-US" sz="3600" spc="-1" strike="noStrike" u="sng">
                <a:solidFill>
                  <a:srgbClr val="ffffff"/>
                </a:solidFill>
                <a:uFillTx/>
                <a:latin typeface="Bradley Hand ITC"/>
              </a:rPr>
              <a:t>supporting this project.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- Initial Garden Design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- Q &amp; A’s about purpose of Gard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- Q &amp; A’s about sustainabilit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- Photos of the class in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80880"/>
            <a:ext cx="83059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cc33"/>
                </a:solidFill>
                <a:latin typeface="Bradley Hand ITC"/>
              </a:rPr>
              <a:t>Room 14’s Garden and Pizza Oven Project</a:t>
            </a:r>
            <a:br>
              <a:rPr sz="6000"/>
            </a:br>
            <a:r>
              <a:rPr b="1" lang="en-US" sz="4400" spc="-1" strike="noStrike">
                <a:solidFill>
                  <a:srgbClr val="33cc33"/>
                </a:solidFill>
                <a:latin typeface="Bradley Hand ITC"/>
              </a:rPr>
              <a:t>- Meadowbank School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012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4585" t="0" r="6785" b="3334"/>
          <a:stretch/>
        </p:blipFill>
        <p:spPr>
          <a:xfrm>
            <a:off x="152280" y="152280"/>
            <a:ext cx="4419720" cy="6629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724280" y="15228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724280" y="3505320"/>
            <a:ext cx="4241880" cy="3181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228600" y="6062760"/>
            <a:ext cx="13716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983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772400" y="6062760"/>
            <a:ext cx="13716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573800" cy="6553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876920" y="342900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5228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4856" t="0" r="6142" b="3531"/>
          <a:stretch/>
        </p:blipFill>
        <p:spPr>
          <a:xfrm>
            <a:off x="4519440" y="152280"/>
            <a:ext cx="4395960" cy="6553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rcRect l="0" t="7031" r="0" b="27350"/>
          <a:stretch/>
        </p:blipFill>
        <p:spPr>
          <a:xfrm>
            <a:off x="380880" y="3429000"/>
            <a:ext cx="3733920" cy="3267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62012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381880" cy="6094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05920" cy="6039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62012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3519" t="0" r="8308" b="3851"/>
          <a:stretch/>
        </p:blipFill>
        <p:spPr>
          <a:xfrm>
            <a:off x="152280" y="152280"/>
            <a:ext cx="4368960" cy="6553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48320" y="1522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724280" y="350532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5228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985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772400" y="6062760"/>
            <a:ext cx="13716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983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3435" t="0" r="7022" b="3088"/>
          <a:stretch/>
        </p:blipFill>
        <p:spPr>
          <a:xfrm>
            <a:off x="4572000" y="152280"/>
            <a:ext cx="4403880" cy="6553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4267440" cy="3202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52280" y="350532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777240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04:45:16Z</dcterms:created>
  <dc:creator> </dc:creator>
  <dc:description/>
  <dc:language>en-US</dc:language>
  <cp:lastModifiedBy> </cp:lastModifiedBy>
  <dcterms:modified xsi:type="dcterms:W3CDTF">2009-04-30T05:05:56Z</dcterms:modified>
  <cp:revision>4</cp:revision>
  <dc:subject/>
  <dc:title>Slide 1</dc:title>
</cp:coreProperties>
</file>