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2D4-25C0-423F-8EB3-7756B6A7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6F6-2BA0-4312-9852-BC742D31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EB3-CF1C-44A6-AFAA-750DD100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5EB-2783-46B1-B7AE-A0679A8D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CDC-C53C-4AE0-893B-5715E5DC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B24-AC79-47EA-80BF-2C73158F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967-09A8-4201-BAD3-D25AED7A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001-0F7E-41F6-A320-162AB954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6F9-DED0-4F8A-9A8B-45388A27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446-9D10-40F5-8906-C0749931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8C0-204E-4740-8C93-2FDF783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97C-080D-4A38-9D6A-7D1B2E1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3271-8FD5-4E73-BBF5-51E89D9DC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A small sample of our class work 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supporting this project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Initial Garden Desig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purpose of Gard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sustainabil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Photos of the class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88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Bradley Hand ITC"/>
              </a:rPr>
              <a:t>Room 14’s Garden and Pizza Oven Project</a:t>
            </a:r>
            <a:br>
              <a:rPr sz="6000"/>
            </a:br>
            <a:r>
              <a:rPr b="1" lang="en-US" sz="4400" spc="-1" strike="noStrike">
                <a:solidFill>
                  <a:srgbClr val="33cc33"/>
                </a:solidFill>
                <a:latin typeface="Bradley Hand ITC"/>
              </a:rPr>
              <a:t>- Meadowbank School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585" t="0" r="6785" b="3334"/>
          <a:stretch/>
        </p:blipFill>
        <p:spPr>
          <a:xfrm>
            <a:off x="152280" y="152280"/>
            <a:ext cx="4419720" cy="662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286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73800" cy="655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4856" t="0" r="6142" b="3531"/>
          <a:stretch/>
        </p:blipFill>
        <p:spPr>
          <a:xfrm>
            <a:off x="4519440" y="152280"/>
            <a:ext cx="4395960" cy="6553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7031" r="0" b="27350"/>
          <a:stretch/>
        </p:blipFill>
        <p:spPr>
          <a:xfrm>
            <a:off x="380880" y="3429000"/>
            <a:ext cx="3733920" cy="326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09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3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519" t="0" r="8308" b="3851"/>
          <a:stretch/>
        </p:blipFill>
        <p:spPr>
          <a:xfrm>
            <a:off x="152280" y="152280"/>
            <a:ext cx="4368960" cy="655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435" t="0" r="7022" b="3088"/>
          <a:stretch/>
        </p:blipFill>
        <p:spPr>
          <a:xfrm>
            <a:off x="4572000" y="152280"/>
            <a:ext cx="4403880" cy="655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267440" cy="320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77240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4:45:16Z</dcterms:created>
  <dc:creator> </dc:creator>
  <dc:description/>
  <dc:language>en-US</dc:language>
  <cp:lastModifiedBy> </cp:lastModifiedBy>
  <dcterms:modified xsi:type="dcterms:W3CDTF">2009-04-30T05:05:56Z</dcterms:modified>
  <cp:revision>4</cp:revision>
  <dc:subject/>
  <dc:title>Slide 1</dc:title>
</cp:coreProperties>
</file>