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951-C508-4FF0-BF61-95C3529F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4F3-0A08-4D1E-8326-EA17B2E0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8FE-C711-4158-BFD9-3C4237A5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BF2-66F9-41CC-B454-86C86662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E3F-16AB-425B-BC76-BFEF6970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401-9162-4BC0-8B43-DDB08820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C75-8662-4F1B-98AF-799E9EA2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4B9-DE49-4054-84E2-6A40E463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688-9F03-4D5D-A298-8C325AA3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1AD-8074-4A92-9ECA-22417CA7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C9F-95E0-4EBA-9445-CD5B6418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5C3-6F6C-443D-BA9E-B0248F52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E365-C1CF-48D5-B002-FBBC9D5B1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Bradley Hand ITC"/>
              </a:rPr>
              <a:t>A small sample of our class work </a:t>
            </a: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Bradley Hand ITC"/>
              </a:rPr>
              <a:t>supporting this project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Initial Garden Desig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Q &amp; A’s about purpose of Gard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Q &amp; A’s about sustainabil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Photos of the class in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80880"/>
            <a:ext cx="8305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Bradley Hand ITC"/>
              </a:rPr>
              <a:t>Room 14’s Garden and Pizza Oven Project</a:t>
            </a:r>
            <a:br>
              <a:rPr sz="6000"/>
            </a:br>
            <a:r>
              <a:rPr b="1" lang="en-US" sz="4400" spc="-1" strike="noStrike">
                <a:solidFill>
                  <a:srgbClr val="33cc33"/>
                </a:solidFill>
                <a:latin typeface="Bradley Hand ITC"/>
              </a:rPr>
              <a:t>- Meadowbank School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4585" t="0" r="6785" b="3334"/>
          <a:stretch/>
        </p:blipFill>
        <p:spPr>
          <a:xfrm>
            <a:off x="152280" y="152280"/>
            <a:ext cx="4419720" cy="6629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24280" y="1522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41880" cy="3181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286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7724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73800" cy="6553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4856" t="0" r="6142" b="3531"/>
          <a:stretch/>
        </p:blipFill>
        <p:spPr>
          <a:xfrm>
            <a:off x="4519440" y="152280"/>
            <a:ext cx="4395960" cy="6553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7031" r="0" b="27350"/>
          <a:stretch/>
        </p:blipFill>
        <p:spPr>
          <a:xfrm>
            <a:off x="380880" y="3429000"/>
            <a:ext cx="3733920" cy="326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609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03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519" t="0" r="8308" b="3851"/>
          <a:stretch/>
        </p:blipFill>
        <p:spPr>
          <a:xfrm>
            <a:off x="152280" y="152280"/>
            <a:ext cx="4368960" cy="655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724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435" t="0" r="7022" b="3088"/>
          <a:stretch/>
        </p:blipFill>
        <p:spPr>
          <a:xfrm>
            <a:off x="4572000" y="152280"/>
            <a:ext cx="4403880" cy="655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267440" cy="3202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3505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77240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4:45:16Z</dcterms:created>
  <dc:creator> </dc:creator>
  <dc:description/>
  <dc:language>en-US</dc:language>
  <cp:lastModifiedBy> </cp:lastModifiedBy>
  <dcterms:modified xsi:type="dcterms:W3CDTF">2009-04-30T05:05:56Z</dcterms:modified>
  <cp:revision>4</cp:revision>
  <dc:subject/>
  <dc:title>Slide 1</dc:title>
</cp:coreProperties>
</file>